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3D88-FA68-4C49-ABD9-F23DD5E2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3A9-0239-4351-BD9B-460C5AA1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530-970F-4B20-97C6-1F957060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3D8-2CF1-4D67-AF2E-A1735AA4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3810-7BD4-48CD-8C82-D2BF5F5A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77FF-7557-4D9B-A40D-8D04157C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8445-256B-4F9F-8CC7-5FC6D943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F140-275B-4FA8-8983-F97F8622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3A1A-3018-4694-ADD3-F196F5BE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5C1D-1F48-4AE3-8269-EBEB4635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62D4-4D2B-413C-94F2-7E014271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132-26EC-4E67-A120-5E8EA0FF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8E08-8881-419A-AB0F-FC85C9AF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4B28-3740-4503-9F8E-0138D2AA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95E2-D3F5-48E1-99FD-51716881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77EB-BAAF-4C51-AFCD-2014E207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099C-2CF3-4B1F-AA9C-64112C74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F0DCF-EFD4-46E3-8B8E-8582AD6D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A81B4-67A1-45D2-A895-864FA954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F5AFE-711A-4BA5-AD20-CF27A562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2C20-F741-40B5-8F0F-488807F6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7282-BD9D-4761-A821-3BFA8344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512-0DF7-4CBC-945F-858B0795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415D0-7495-4763-96F4-47837128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E303-897B-4B77-B1A4-72213486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8B1EB-16AD-4AA2-ACCB-95556EAD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9A3A4-DB35-4554-B4AB-679EEE29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6AD39-DDF3-4C49-B943-C830A082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3EA80-AC4A-46C4-AB80-AFEC31DA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4ACB4-E2DA-4CEF-B8D1-DD11F8E5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91B33-5E0B-41A6-AD08-22461433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0393-F146-4A85-AEC4-2E785CCB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AE533-131A-4F8D-A97B-497D70D9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B6D-C1E7-41DC-B153-182E044F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6158C-2C97-48FE-82BE-28D2846B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58779-1A84-4838-A029-307E811E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B60FA-A1D4-446C-8E8F-48BBD175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9BD9-F135-4C95-9873-66C8FE4F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9BFA8-DDB1-4F4F-9996-247257BF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BA5AF-202F-4C51-AF90-613A23EA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FCE8D-5113-48A1-AD08-775E194B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F7E07-5644-42FF-952F-AC44DC30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814D1-C5E9-4403-B0E2-368C641D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0EA23-C606-43E6-850D-E3CFCA3D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F73-2D3B-4069-AB8A-F323DD35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412D-B286-4EC5-AC37-6E769366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D180F-78BD-4614-AD0C-73C68A9F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21B57-F332-42EE-8ACC-0449DAE5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ABF23-4B19-4756-9D1B-5243EF5C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FB099-002E-4B9A-B853-9C0C396B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381D6-8875-498C-9AD8-90414BF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B627D-9E27-49F3-A86D-B78754DC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E34DB-8F69-479E-9D50-38C5C251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011A9-2634-4BF2-89F6-E73ECA24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64ED8-B882-4A5B-9AD5-57F336B8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E17-9098-4F17-A4AF-DD4440C8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8D960-E75F-4E2B-8772-F0407033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A1241-23B7-4450-AD63-681A5A29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7CA0E-FE21-4A95-9B6D-D2595D63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BBECA-CF73-4964-BC9A-4E7FF6E1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C3A4E-06C0-4D8C-A616-47324CA9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21B7F-EBF5-4C3F-9465-E5E49B86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061AE-2AB1-4F4B-B7EF-872D42BA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D2F0E-669C-4822-8424-626B4E75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13657-F761-4799-8E7D-B3475B27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8FF98-2CE4-4A7C-9868-FDAB89AF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0B0-A14B-4E22-BFA3-863CDC03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629D3-C59E-4D98-AE47-647B86A4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8FEA8-6EAB-45C4-AB6F-236A8086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D4143-CAEE-460C-98B4-77ED9BE6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977-857F-42F7-AA71-35944668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38F-E7D5-41E5-854F-71EAA0AC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3425-084D-43DE-AC00-3B2EB531C24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EC5C-5A1C-47F2-9456-7C62C9564C3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9651-A2FA-43E1-B558-C5F0FB3D0F9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4679-8F29-4464-A582-5F8C69A4372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A57A-EC7F-463C-882E-3370BBB783C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0FFE-DA0F-4F85-8D65-CFC9868323C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682560" y="2163600"/>
            <a:ext cx="8186760" cy="14814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809520"/>
            <a:ext cx="648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8288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ysical Exa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 vary with the drug(s) used by the 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ity of withdrawal may not correlate with dose or duration of drug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7524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irr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deep tendon and primitive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muscle 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mors and myoclonic je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pitched c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kefu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16765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abolic/Motor/Respira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t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ri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eezing/con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a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w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cc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rooting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ordinated suck and swal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gain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chypnea/nasal 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765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rg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se stools/diarr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tients are usually observed for at least 3-5 days for S/S of withdrawal before they are discharged h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stinence scoring is a way to assess withdrawal sig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several abstinence scoring systems, but none have been adopted as the stand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innegan scoring system is the most comprehensive and widely u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ore of 7 or less is considered mild withdrawal and infants do well with non-pharmacologic comfor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 scores of 8 or more generally indicate the need for pharmacologic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2133720" y="-20520"/>
          <a:ext cx="4860720" cy="68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-20520"/>
                    <a:ext cx="4860720" cy="68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3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0960" cy="2444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udies On N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mitatio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tox screens do not reflect drug exposure throughout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women who use drugs are multiple drug users, and also drink alcohol and smoke cigaret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it is difficult to isolate the effect of one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pi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st frequent cause of 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 of symptoms: Minutes after delivery to 2-3 days of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nical course: Variable, can show any of the s/s mentioned before, s/s can persist up to 3-6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nosis: Good, minimal teratogenicity, good catch up growth by 1-2 years, most have normal cognitive and motor development at 5-6 years with long term follow-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arbitur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 similar to opiates except onset usually later (4-7 days after bir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ation of s/s usually 2-6 weeks, but can last as long as 4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efinition of Neonatal Abstinence Syndrome (NAS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332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condition that an infant experiences when withdrawing from certain drugs that his/her mother took during pregna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enzodiazepin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much is known about benzodiazep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 similar to opiate withdraw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: usually not until 1st few days after bir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has been a reported case where s/s started 21 days after birth with chlordiazepoxid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lcoho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4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emost drug used tod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: 3-12 hours after delive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: More CNS effects, less severe and of shorter duration than withdrawal from opi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re concerning is the risk for Fetal Alcohol Syndrom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-40% risk in infants born to alcoholic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to alcohol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cause of mental retardation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tal Alcohol Syndrome (FAS)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iteria for FA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natal or postnatal growth retar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S involvement: developmental delays, behavioral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morphic Facial Features: microcephaly, microphthalmia, short palpebral fissures, poorly developed philtrum, thin upper lip, hypoplastic max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umerous congenital anomalies are associated with F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don’t meet the criteria, but present with fetal alcohol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tal Alcohol Syndro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Content Placeholder 3" descr="FAS.jpg"/>
          <p:cNvPicPr/>
          <p:nvPr/>
        </p:nvPicPr>
        <p:blipFill>
          <a:blip r:embed="rId1"/>
          <a:stretch/>
        </p:blipFill>
        <p:spPr>
          <a:xfrm>
            <a:off x="4648320" y="1905120"/>
            <a:ext cx="4216320" cy="3481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FAS2.jpg"/>
          <p:cNvPicPr/>
          <p:nvPr/>
        </p:nvPicPr>
        <p:blipFill>
          <a:blip r:embed="rId2"/>
          <a:stretch/>
        </p:blipFill>
        <p:spPr>
          <a:xfrm>
            <a:off x="152280" y="1905120"/>
            <a:ext cx="428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common cause of 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see s/s that represent the direct effects of the stimulants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/Duration: Within first 7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S: Tremors, high pitched cry, irritability, excessive suck, hypertonia, tachyca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and Methamphetamine exposed fetuses have a high rate of spontaneous abortions, stillbirths, IUGR, prematurity, and asphyxia related to placental abru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a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vasoconstriction and decrease in placental blood flow with consequent fetal 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as a teratogen because of the vascular effects: CNS &amp; CV anomalies, limb defects, intestinal atr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ually there is good catch up growth by 1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may be speech and behavioral problems as children get ol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ies have shown no difference with respect to intellectual ability in children who were drug-exposed vs. placeb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amphetam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drawal symptoms are less sev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: Unclear, may be associated with neurocognitive defic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rijuan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ies have suggested an increased risk of prematurity and lower birth wei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nosis: Higher incidence of ADHD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SR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use NAS in up to 1/3 of neonates exposed in ute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/Duration: Severely effected present in 1st 48 hours of life and resolve within 48 hou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: Tremors, hypertonia, irritability, GI disturbance, respiratory distr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S usually self-limited &amp; does not require pharmacologic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oxetine with greatest propensity to cause 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e Nursery Protoc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ifestations of drug withdrawal in some infants will resolve within a few days and drug therapy is not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infant’s withdrawal score should be assessed to monitor the progression of symptoms and adequacy of treat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cidence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981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-10% of deliveries nationwide are to women who have abused drugs during pregnancy (excluding alcoho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eatment should always begin with non-pharmacological meas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ve car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imize stimulation - keep baby in a darkened and quiet environment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waddling and positioning - use gentle swaddling and positioning that encourages flexion rather than exten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vent excessive crying with a pacifier, cuddl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eding should be on demand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for pharmacologic treatment is based on the infant’s abstinence scores and mechanism of action of the drug that the infant was exposed 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goal of therapy is to allow the infant to withdraw without excessive excitation that leads to withdrawal symptoms causing discom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dication Choices and Doses 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ine Sulfate: high dose = 80-100 mcg/kg q4 hrs; low dose = 30-40 mcg/kg q4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adone: 0.05 – 0.2 mg/kg q12-24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prenorphine: 13.2 mcg/kg/day in 3 divided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enobarbital: Loading = 16mg/kg per 24 hrs; Maintenance = 2 – 8 mg/kg/day in 2 divided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zepam: 1 – 2 mg q8 – 12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ce a pharmacologic dose has been advanced to its peak to keep patient comfortable, the dose is gradually weaned so the infant can tolerate mild symptoms of withdraw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length of time it takes to wean an infant off medication varies from infant to inf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ioid withdrawal using oral morphine sulfate has been shown to be most effec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se can be increased by 20% q8 hrs until s/s of withdrawal are control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 dose: 0.2mg/kg/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aning process varies between provi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the peak dose is maintained x 72hrs, then wean by 20% every oth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itional use of Phenobarbital and/or Diazepam is much debated because of added depressant effects on an infant who is already on a narcoti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enobarbital mostly used for CNS withdrawal sympto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preferred for non-opiate related 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cohol – Not recommended if use is exces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ause drowsiness, diaphoresis, deep sleep, weakness, decreased linear growth, abnormal weight gain, and decreased maternal milk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icotine – Controvers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es into breast m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decrease milk production and cause the baby to have poor weight 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phetamine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irritability and poor sleeping ha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aine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irritability, vomiting, diarrhea, tremors, 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rijuana - No clear recommend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adone – Compatible with breastfee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piates are compatible with breastfeeding except for her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 amounts cross into breast milk and there is poor oral bio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roin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tremors, restlessness, poor feeding, vom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68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SRIs - Generally safe for breastfeeding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traline and Paroxetine have minimal transfer into human mil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xetine produces significant plasma concentrations in some breastfeeding infants, which can 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ic, irritability, feeding and sleep disorders, slow weight g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nts should be monitored for irritability and poor feeding, or breast milk can be pumped and dum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athophysi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ugs of abuse are often of low molecular weight, water-soluble, and lipophil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are easily transferred across the placenta to the fetus, and across the blood-brain barrier of the f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/2 life of drugs usually prolonged in the f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ugs either bind to CNS receptors, or affect the release and reuptake of various neurotransmit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have long lasting effects on developing dendritic structures and are toxic to fetal ce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ong Term Manage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ing the first few years, children exposed to drugs in utero can have neurologic proble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places a difficult child in a difficult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ose follow-up and social services involvement may be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isk Factors Associated with an Increased Incidence of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socioeconomic circumsta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enage m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prenatal c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ther Conditions Associated with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20574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ltiple drug abu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nutritional sta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em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fectious Disease (Hep B, syphilis, HIV, and other STD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bstetric Complications Associated with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20574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G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tal Di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e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rioamnio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to cocaine: HTN, cardiac arrhythmias, CVA, abruption, respiratory arrest, fetal de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5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story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drug users withhol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of the quantity and duration of abuse are un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s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tox only reflects intake from the last few days prior to deliv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positive immunoassays can occur (i.e. morphine positive if took in poppy seeds or codeine from cold/cough medicine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pecific chromatography or mass spectrometry may determine the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conium analysis reflects drug usage over a longer period and is more sensitive than ur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 = specimen requires processing prior to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ir analysis is the most sensitive test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 relationship exists between amount of drug use and amount incorporated in the 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born hair can be obtained to reflect exposure during last trimester, and can be obtained later should symptoms occur where in-utero drug exposure was previously unsusp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8:00:31Z</dcterms:created>
  <dc:creator>Ada Ho</dc:creator>
  <dc:description/>
  <dc:language>en-US</dc:language>
  <cp:lastModifiedBy>Health Services Department</cp:lastModifiedBy>
  <dcterms:modified xsi:type="dcterms:W3CDTF">2010-05-24T23:59:25Z</dcterms:modified>
  <cp:revision>24</cp:revision>
  <dc:subject/>
  <dc:title>Neonatal Withdrawl Syndrome</dc:title>
</cp:coreProperties>
</file>